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6AF-9B48-48E4-86C9-D8067175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D52-D87F-406C-9FD6-1CE1D5C0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2DF-E805-40D0-A3C8-85DA0C3C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FCD-0008-494B-A585-F911E9E6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7E8-E003-41DF-AD58-35860EE2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D7F-34E5-4925-AF30-E00272A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03E-1555-4003-A805-5AF21773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9B1-943E-470B-9149-757032D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501-607B-4155-B441-D7A368D4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413-9049-4AB2-B659-4E03945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1F2-931C-4CAD-B71C-EBA5698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601-8DAD-4AD3-8972-4E9021D6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EC1-AC67-4D17-B1DC-03056590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rayons.html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sil.si.edu/exhibitions/doodles/innov_binney.htm" TargetMode="External"/><Relationship Id="rId5" Type="http://schemas.openxmlformats.org/officeDocument/2006/relationships/hyperlink" Target="http://www.sil.si.edu/exhibitions/doodles/innov_binney.ht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0"/>
            <a:ext cx="86104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rayola Cray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4876920"/>
            <a:ext cx="3505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yn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71500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ke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ember 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419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Edwin Binney and Harold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Binney &amp; Smith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2819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146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win Binney &amp; Harold Smith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95680" y="1371600"/>
            <a:ext cx="4114800" cy="363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4876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5181480"/>
            <a:ext cx="3581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les, Drafts, and Designs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NOVATORS GALLER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,20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il.si.edu/exhibitions/doodles/innov_binne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Invention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ray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 1903 the 8 pack of crayons was inv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ce 1903 when an 8 pack of crayons was invented they have expanded in success in number of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In 1949 a 48 pack of crayons was inv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n 1958 a 64 pack of crayons with a built in crayon sharpener was inv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1972 florescent colors were added to the bo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1993 the pack of 96 was inv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so in 1993 the color “Flesh” (skin color) was changed to the name “Peach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nventor: Edwin Binney, Harold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In the late 1800’s the Edwin Binney and Harold Smith founded the Binney &amp; Smith, In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ney &amp; Smith first specialized in industrial colorings including pigments that made country barns red and automobile tires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They also began making slate pencil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02, at St. Louis World Exploration they won a gold medal for the product dustless ch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3, they invented the first box o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yel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 of cray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4Z</dcterms:created>
  <dc:creator>install</dc:creator>
  <dc:description/>
  <dc:language>en-US</dc:language>
  <cp:lastModifiedBy>install</cp:lastModifiedBy>
  <dcterms:modified xsi:type="dcterms:W3CDTF">2011-12-16T15:31:00Z</dcterms:modified>
  <cp:revision>11</cp:revision>
  <dc:subject/>
  <dc:title>Slide 1</dc:title>
</cp:coreProperties>
</file>